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63D9B-9155-4024-9CD9-09735BACA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3B5AF-0481-4E72-A32B-1B5E4F212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191E1-5B1F-4143-8395-1BBC5C656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7A33-D33A-43E3-8FC0-5969C3E3E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EF885-D073-4655-97B1-344288C8D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09CC0-6F18-4E02-83E9-6DB1D3764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57081-3B0E-4571-B767-D54AE4889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9A68E-1925-42B7-B11C-C6E47BDE9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BF3E1-9D34-47CA-A957-250179847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6F0D0-82D1-4DF1-A776-05796CD75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A6B82-0342-4234-BB31-C71468E4F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02827-A9E2-42E8-BE28-A45BEBF75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758E4-0541-4FA1-8239-F43B6F3D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64FC5-4E0D-47B0-B688-81DE48B7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BF9D7-8450-4F10-B40A-2CB184618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64163-3EAC-4B8D-80F7-01E9259F6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E8980-E0C5-4E6B-B47E-97C6086CA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5F24-2777-4514-8EBC-A158DA12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79B2A-D0EF-47BD-8C23-7C11C040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9B8B-D3C7-4DF3-A529-21B39FDC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41821-EF05-4B6F-BF67-2D3842E3C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B13AA-9489-4E94-9C04-22377294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136B-FD35-4672-A2AD-88E6D72CC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77E4-B59E-475F-8F4D-3B5286C9F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34D2-01FA-49D3-A7B2-EE3B8EC25AA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A4B2-9418-44DF-96D6-84726A9ECFC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2362320"/>
            <a:ext cx="8382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agine that you are in the grocery store.  When you open the freezer case to get some ice cream you are shocked to find something alive in there!  Tell what you find and write about wh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happens nex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609120"/>
            <a:ext cx="8076960" cy="4876920"/>
          </a:xfrm>
          <a:prstGeom prst="rect">
            <a:avLst/>
          </a:prstGeom>
          <a:noFill/>
          <a:ln w="0">
            <a:noFill/>
          </a:ln>
        </p:spPr>
        <p:txBody>
          <a:bodyPr lIns="90000" rIns="90000" tIns="46800" bIns="46800"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magine that you are walking through the hallway at school and discover a door you’ve never seen before.  You go through the door and find yourself in a magical place.  Write a story about your adventur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838080"/>
            <a:ext cx="8076960" cy="46483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Being outdoors can be a lot of fun.  Think about a time when you had an outdoor experience.  Write a story about this experience.  Be sure to describe the outdoor setting where this experience or activity took pla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920" y="761760"/>
            <a:ext cx="80769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Everyone has a good friend that they enjoy being with.  Write a story about a special, fun time you had with a good friend, or about a special experience you would like to have with a good friend.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1:34:47Z</dcterms:created>
  <dc:creator>Rutherford County Schools</dc:creator>
  <dc:description/>
  <dc:language>en-US</dc:language>
  <cp:lastModifiedBy>Rutherford County Schools</cp:lastModifiedBy>
  <dcterms:modified xsi:type="dcterms:W3CDTF">2007-04-21T15:53:55Z</dcterms:modified>
  <cp:revision>2</cp:revision>
  <dc:subject/>
  <dc:title>Slide 1</dc:title>
</cp:coreProperties>
</file>